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20.wmf" ContentType="image/x-wmf"/>
  <Override PartName="/ppt/media/image56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12.png" ContentType="image/png"/>
  <Override PartName="/ppt/media/image34.jpeg" ContentType="image/jpeg"/>
  <Override PartName="/ppt/media/image5.jpeg" ContentType="image/jpeg"/>
  <Override PartName="/ppt/media/image7.png" ContentType="image/png"/>
  <Override PartName="/ppt/media/image62.jpeg" ContentType="image/jpeg"/>
  <Override PartName="/ppt/media/image32.jpeg" ContentType="image/jpeg"/>
  <Override PartName="/ppt/media/image4.jpeg" ContentType="image/jpeg"/>
  <Override PartName="/ppt/media/image61.jpeg" ContentType="image/jpeg"/>
  <Override PartName="/ppt/media/image2.wmf" ContentType="image/x-wmf"/>
  <Override PartName="/ppt/media/image37.jpeg" ContentType="image/jpeg"/>
  <Override PartName="/ppt/media/image3.jpeg" ContentType="image/jpeg"/>
  <Override PartName="/ppt/media/image15.png" ContentType="image/png"/>
  <Override PartName="/ppt/media/image19.wmf" ContentType="image/x-wmf"/>
  <Override PartName="/ppt/media/image60.jpeg" ContentType="image/jpeg"/>
  <Override PartName="/ppt/media/image21.wmf" ContentType="image/x-wmf"/>
  <Override PartName="/ppt/media/image63.jpeg" ContentType="image/jpeg"/>
  <Override PartName="/ppt/media/image65.jpeg" ContentType="image/jpeg"/>
  <Override PartName="/ppt/media/image8.png" ContentType="image/png"/>
  <Override PartName="/ppt/media/image39.jpeg" ContentType="image/jpeg"/>
  <Override PartName="/ppt/media/image64.jpeg" ContentType="image/jpeg"/>
  <Override PartName="/ppt/media/image38.jpeg" ContentType="image/jpeg"/>
  <Override PartName="/ppt/media/image11.png" ContentType="image/png"/>
  <Override PartName="/ppt/media/image22.wmf" ContentType="image/x-wmf"/>
  <Override PartName="/ppt/media/image29.jpeg" ContentType="image/jpeg"/>
  <Override PartName="/ppt/media/image24.wmf" ContentType="image/x-wmf"/>
  <Override PartName="/ppt/media/image28.jpeg" ContentType="image/jpeg"/>
  <Override PartName="/ppt/media/image51.jpeg" ContentType="image/jpeg"/>
  <Override PartName="/ppt/media/image67.jpeg" ContentType="image/jpeg"/>
  <Override PartName="/ppt/media/image26.wmf" ContentType="image/x-wmf"/>
  <Override PartName="/ppt/media/image46.jpeg" ContentType="image/jpeg"/>
  <Override PartName="/ppt/media/image14.png" ContentType="image/png"/>
  <Override PartName="/ppt/media/image66.jpeg" ContentType="image/jpeg"/>
  <Override PartName="/ppt/media/image16.wmf" ContentType="image/x-wmf"/>
  <Override PartName="/ppt/media/image45.jpeg" ContentType="image/jpeg"/>
  <Override PartName="/ppt/media/image52.jpeg" ContentType="image/jpeg"/>
  <Override PartName="/ppt/media/image1.png" ContentType="image/png"/>
  <Override PartName="/ppt/media/image13.png" ContentType="image/png"/>
  <Override PartName="/ppt/media/image54.jpeg" ContentType="image/jpeg"/>
  <Override PartName="/ppt/media/image9.png" ContentType="image/png"/>
  <Override PartName="/ppt/media/image17.wmf" ContentType="image/x-wmf"/>
  <Override PartName="/ppt/media/image27.jpeg" ContentType="image/jpeg"/>
  <Override PartName="/ppt/media/image50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40.jpeg" ContentType="image/jpeg"/>
  <Override PartName="/ppt/media/image23.wmf" ContentType="image/x-wmf"/>
  <Override PartName="/ppt/media/image41.jpeg" ContentType="image/jpeg"/>
  <Override PartName="/ppt/media/image59.jpeg" ContentType="image/jpeg"/>
  <Override PartName="/ppt/media/image6.png" ContentType="image/png"/>
  <Override PartName="/ppt/media/image42.jpeg" ContentType="image/jpeg"/>
  <Override PartName="/ppt/media/image43.jpeg" ContentType="image/jpeg"/>
  <Override PartName="/ppt/media/image44.jpeg" ContentType="image/jpeg"/>
  <Override PartName="/ppt/media/image25.wmf" ContentType="image/x-wmf"/>
  <Override PartName="/ppt/media/image4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936-1289-452B-8E95-0005F55D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7143-0A9F-4662-B565-FFC16075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5D7E-529F-4DA1-B20B-E3218D5D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384-A3F5-49A1-9BF7-CD46B2A5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638D-309E-40D9-A578-0F576172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8FC3-81E1-4B39-983B-E4E3D185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FB49-3CC1-414D-A60C-16B2628B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5780-4C7D-433B-A283-3C4B7DF3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C270-3285-4406-AEFB-1A08D050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B74B-5731-4A57-B01D-3FBDDC47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0210-1BA7-4B5C-B2D7-103BC3E9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C77C-9BC3-4115-8301-FCF3C9C1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5294-97D0-48EE-8CC2-81ECE29A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9A2C-75CA-4653-A6F7-92B725B8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F6EB-C354-42F5-951A-F2ED7CE0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621E-E2E0-4DF4-9241-7D21E0D0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2F39-358D-4105-AE4B-FD1BB27F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2C0-4832-41BC-A94B-99B0648A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D49E-15D5-4C64-A7D7-041C6A8E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379E-9E0F-4896-9F11-09FC9979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9AC2-D25C-49D3-9E17-1F943F7E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0B8-D18D-4BE6-97A5-4D6E6C32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8D1-D985-4014-9635-1365C956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62A0-28B8-4E45-80F2-994243CE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699F-BCEE-4666-893A-6B616835F43B}" type="slidenum"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B9EE-62C6-48D7-A8A8-9EBB346C23BA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image" Target="../media/image61.jpeg"/><Relationship Id="rId8" Type="http://schemas.openxmlformats.org/officeDocument/2006/relationships/image" Target="../media/image62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9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66.jpeg"/><Relationship Id="rId8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826920" y="4005360"/>
            <a:ext cx="756144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Object 26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1276200" cy="1676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8" descr="j0240719"/>
          <p:cNvPicPr/>
          <p:nvPr/>
        </p:nvPicPr>
        <p:blipFill>
          <a:blip r:embed="rId2"/>
          <a:stretch/>
        </p:blipFill>
        <p:spPr>
          <a:xfrm>
            <a:off x="179280" y="2997360"/>
            <a:ext cx="2340000" cy="3528720"/>
          </a:xfrm>
          <a:prstGeom prst="rect">
            <a:avLst/>
          </a:prstGeom>
          <a:ln w="0">
            <a:noFill/>
          </a:ln>
        </p:spPr>
      </p:pic>
      <p:sp>
        <p:nvSpPr>
          <p:cNvPr id="215" name="Номер слайда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1A83-45C3-4D8A-B04E-C56F66559C6F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Текстовое поле 99"/>
          <p:cNvSpPr/>
          <p:nvPr/>
        </p:nvSpPr>
        <p:spPr>
          <a:xfrm>
            <a:off x="2031840" y="1998720"/>
            <a:ext cx="5080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Times New Roman"/>
                <a:ea typeface="SimSun"/>
              </a:rPr>
              <a:t>Оказание первой помощ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Алгоритм действий в оказании первой медицинской помощи на месте происшеств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179280" y="1197000"/>
            <a:ext cx="8785440" cy="863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нет сознания и нет пульса на сонной артерии –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ступить к реанима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я: 10-15 секун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179280" y="2276640"/>
            <a:ext cx="8785440" cy="1079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нет сознания, но есть пульс на сонной артерии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ернуть на живот и очистить ротовую пол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я: 30 секун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179280" y="3500280"/>
            <a:ext cx="8785440" cy="863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ри артериальном кровотечении 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ложить жг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я: 30 секун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179280" y="4581360"/>
            <a:ext cx="8785440" cy="792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наличии ран –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ложить повя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я: 30 секун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179280" y="5589720"/>
            <a:ext cx="878544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Если есть признаки переломов костей конечностей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ложить транспортные шины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1280880" y="6400800"/>
            <a:ext cx="64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ое правило – не причинить бол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Номер слайда 8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179B-8A19-4798-983B-07A7DBC1B486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-360" y="2060280"/>
            <a:ext cx="525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пособ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овед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реанимационны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ероприят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5292720" y="1268280"/>
            <a:ext cx="3630600" cy="525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92" name="Номер слайда 4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CA2A-E489-48DF-B367-E15FCA36D403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Прямоугольник 5"/>
          <p:cNvSpPr/>
          <p:nvPr/>
        </p:nvSpPr>
        <p:spPr>
          <a:xfrm>
            <a:off x="395280" y="33336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чебный вопрос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3"/>
          <p:cNvSpPr/>
          <p:nvPr/>
        </p:nvSpPr>
        <p:spPr>
          <a:xfrm>
            <a:off x="0" y="0"/>
            <a:ext cx="91440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изнаки клинической смер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сутствие созн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сутствие дых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сутствие кровообращ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252360" y="1989000"/>
            <a:ext cx="8569440" cy="4543920"/>
          </a:xfrm>
          <a:prstGeom prst="rect">
            <a:avLst/>
          </a:prstGeom>
          <a:noFill/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изнаки биологической смер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сутствие чувствительности на болевые и термические раздражит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сутствие рвотного рефлек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сутствие фоторефлек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мутнение и высыхание роговицы гл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сдавливании глаза пальцами с боков, зрачок суживается и напоминает «кошачий глаз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нижение температуры т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явление трупных пятен на ко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личие трупного окоченения (через 2-3 часа после смер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149D-3A0A-461B-B126-17DF36974976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3"/>
          <p:cNvSpPr/>
          <p:nvPr/>
        </p:nvSpPr>
        <p:spPr>
          <a:xfrm>
            <a:off x="250920" y="69228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Реанимационные мероприят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324000" y="2060640"/>
            <a:ext cx="8569080" cy="35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. Восстановление проходимости дыхательных путей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. Проведение искусственного дыхания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о Каллистову «изо рта в рот» или «изо рта в нос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. Проведение закрытого (непрямого) массажа сердц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0E85-92DC-49E3-B6BD-B45AA324A937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4067280" y="1197000"/>
            <a:ext cx="48006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ложите пострадавшего на спину на твердую поверх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кройте дыхательные пу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прокиньте голову назад и приподнимите подбород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давите рукой на лоб и выдвиньте нижнюю челю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верьте наличие дых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Номер слайда 4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8B28-2031-40D4-A57F-398C5F9BB5CF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Box 5"/>
          <p:cNvSpPr/>
          <p:nvPr/>
        </p:nvSpPr>
        <p:spPr>
          <a:xfrm>
            <a:off x="431640" y="0"/>
            <a:ext cx="871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осстановление проходимости дыхательных пу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600360" cy="266400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9"/>
          <p:cNvSpPr/>
          <p:nvPr/>
        </p:nvSpPr>
        <p:spPr>
          <a:xfrm>
            <a:off x="4067280" y="5084640"/>
            <a:ext cx="48258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определения наличия дыхания используйте зрительный, слуховой и осязательный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троль в течение 5 секун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2"/>
          <a:stretch/>
        </p:blipFill>
        <p:spPr>
          <a:xfrm>
            <a:off x="250920" y="3998880"/>
            <a:ext cx="35290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744720" cy="266364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3"/>
          <p:cNvSpPr/>
          <p:nvPr/>
        </p:nvSpPr>
        <p:spPr>
          <a:xfrm>
            <a:off x="4140360" y="1773360"/>
            <a:ext cx="500364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делайте 2 полных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дувания «изо рта в рот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жмите ноздри пострадавшего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лотно обхватите губами рот   пострадавш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делайте 2 полных вду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ледите за поднятием грудной клетки, чтобы убедиться, что воздух проходит в лег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Номер слайда 6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11A4-A5AF-4F30-8BDE-135483FDE3BE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Box 7"/>
          <p:cNvSpPr/>
          <p:nvPr/>
        </p:nvSpPr>
        <p:spPr>
          <a:xfrm>
            <a:off x="1403280" y="333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скусственное дых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2"/>
          <a:stretch/>
        </p:blipFill>
        <p:spPr>
          <a:xfrm>
            <a:off x="250920" y="3998880"/>
            <a:ext cx="374472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3051000" cy="289692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5"/>
          <p:cNvSpPr/>
          <p:nvPr/>
        </p:nvSpPr>
        <p:spPr>
          <a:xfrm>
            <a:off x="3456000" y="404640"/>
            <a:ext cx="5688000" cy="56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айдите правильное полож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ля ру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щупайте пальцами углубление на нижнем крае грудины и держите свои два пальца в этом мес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ожите основание ладони другой руки на грудину выше того места, где расположены паль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нимите пальцы с углубления и положите ладонь первой руки поверх другой ру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 касайтесь пальцами грудной кле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Номер слайда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BB1A-C66B-4224-AFF0-A33C920E9C2A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3024000" cy="33098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"/>
          <p:cNvSpPr/>
          <p:nvPr/>
        </p:nvSpPr>
        <p:spPr>
          <a:xfrm>
            <a:off x="3500280" y="1341360"/>
            <a:ext cx="5643720" cy="4753800"/>
          </a:xfrm>
          <a:prstGeom prst="rect">
            <a:avLst/>
          </a:prstGeom>
          <a:noFill/>
          <a:ln w="9360">
            <a:solidFill>
              <a:srgbClr val="0064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Сделайте 30 надавливаний на грудину на глубину от 4 до 5 см и частотой от 80 до 100 надавливаний в минуту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ри проведении надавливаний плечи спасателя должны находиться над его телом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роизводите надавливания плавно по вертикальной прямой, постоянно</a:t>
            </a:r>
            <a:br>
              <a:rPr sz="2300"/>
            </a:b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удерживая руки на грудине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режде чем начинать следующее</a:t>
            </a:r>
            <a:br>
              <a:rPr sz="2300"/>
            </a:b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надавливание, дайте грудной клетке </a:t>
            </a:r>
            <a:br>
              <a:rPr sz="2300"/>
            </a:b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одняться в исходное положение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6804000" y="638316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25BA-69B0-4456-A5D7-440884944143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755640" y="1890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прямой массаж серд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0"/>
            <a:ext cx="9144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ервая помощь при остановке сердца: провед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ердечно-легочной реанимации дл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зросл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304920" y="2997360"/>
            <a:ext cx="3043080" cy="31446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4"/>
          <p:cNvSpPr/>
          <p:nvPr/>
        </p:nvSpPr>
        <p:spPr>
          <a:xfrm>
            <a:off x="250920" y="990720"/>
            <a:ext cx="864216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мотрите место происшествия, чтобы убедиться в отсутствии опасности и выяснить, что случило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ведите первичный осмо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3564000" y="2492280"/>
            <a:ext cx="5256000" cy="28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ределите наличие сознания у пострадавш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омко спросите: "Вам нужна помощь?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хлопайте в ладош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жмите трапециевидную мышцу пострадавш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3635280" y="5823000"/>
            <a:ext cx="5257800" cy="102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пострадавший без созн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сторожно переверните пострадавшего на спину (только, если необходимо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Номер слайда 6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1417-671C-437F-BD5E-BAE01D51F81B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539640" y="3573360"/>
            <a:ext cx="3246480" cy="2971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3213360" cy="29275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4"/>
          <p:cNvSpPr/>
          <p:nvPr/>
        </p:nvSpPr>
        <p:spPr>
          <a:xfrm>
            <a:off x="4140360" y="2349360"/>
            <a:ext cx="464796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роверьте наличие пуль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щупайте адамово яблоко (кады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реместите пальцы в углубление на шее со стороны, расположенной ближе к в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щупывайте пульс в течение 10  секун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4067280" y="692280"/>
            <a:ext cx="46479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зовите скорую помощь или пошлите кого-нибудь вызвать скорую помощ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4211640" y="5597640"/>
            <a:ext cx="4648320" cy="1261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пульс у пострадавшего не определя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ереходите к сердечно-легочной реаним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Номер слайда 6"/>
          <p:cNvSpPr/>
          <p:nvPr/>
        </p:nvSpPr>
        <p:spPr>
          <a:xfrm>
            <a:off x="6804000" y="638316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48F1-C3DB-4E14-80AA-ED55B62A9F7D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8066160" cy="621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У ч е б н ы е   в о п р о с ы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11280" y="1988640"/>
            <a:ext cx="820872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Правила и порядок оказания первой помощи себе и пострадавш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Правила проведения реанимационных мероприят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Первая помощь при кровотечениях и ранения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Первая помощь при перелом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Первая помощь при химических и термических ожогах, поражении электрическим то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7185-972A-4585-B96D-6D3DBA8FD84E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2687760" cy="2656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2"/>
          <a:stretch/>
        </p:blipFill>
        <p:spPr>
          <a:xfrm>
            <a:off x="304920" y="3357720"/>
            <a:ext cx="2611440" cy="266364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4"/>
          <p:cNvSpPr/>
          <p:nvPr/>
        </p:nvSpPr>
        <p:spPr>
          <a:xfrm>
            <a:off x="2987640" y="1341360"/>
            <a:ext cx="6156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делайте 2 полных вдувания «изо рта в рот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3059280" y="5805360"/>
            <a:ext cx="6084720" cy="824040"/>
          </a:xfrm>
          <a:prstGeom prst="rect">
            <a:avLst/>
          </a:pr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торяйте цикл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 вдувания и 30 компрессий на груд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Номер слайда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FCB8-72CF-4F23-A240-B6620ACCC54C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6"/>
          <p:cNvSpPr/>
          <p:nvPr/>
        </p:nvSpPr>
        <p:spPr>
          <a:xfrm>
            <a:off x="3132000" y="4076640"/>
            <a:ext cx="60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ведите 30 надавливаний на грудную  клет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7"/>
          <p:cNvSpPr/>
          <p:nvPr/>
        </p:nvSpPr>
        <p:spPr>
          <a:xfrm>
            <a:off x="3203640" y="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еанимационные мероприя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032000" cy="2817720"/>
          </a:xfrm>
          <a:prstGeom prst="rect">
            <a:avLst/>
          </a:prstGeom>
          <a:ln w="0">
            <a:noFill/>
          </a:ln>
        </p:spPr>
      </p:pic>
      <p:sp>
        <p:nvSpPr>
          <p:cNvPr id="338" name="Номер слайда 6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FC47-56A1-4C10-998D-FE619042B099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4643280" y="2133720"/>
            <a:ext cx="4321440" cy="1603080"/>
          </a:xfrm>
          <a:prstGeom prst="rect">
            <a:avLst/>
          </a:pr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Повторно проверьте наличие пульса и дыха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щупывайте пульс в течение 10  секун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4"/>
          <p:cNvSpPr/>
          <p:nvPr/>
        </p:nvSpPr>
        <p:spPr>
          <a:xfrm>
            <a:off x="826920" y="4653000"/>
            <a:ext cx="7128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ервая помощь при кровотечениях и ранения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492880" cy="3016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42" name="Номер слайда 4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F43A-D36E-4946-BC09-B4CD86F8E253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6"/>
          <p:cNvSpPr/>
          <p:nvPr/>
        </p:nvSpPr>
        <p:spPr>
          <a:xfrm>
            <a:off x="395280" y="260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чебный вопрос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45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E625-0A25-4C1B-8525-057DF05D08B6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47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5B3C-7E0C-4A44-A312-7937798C6D40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047160" cy="68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49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0E68-C60E-4887-9FFA-6700E01F110E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0" y="765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Классификация ран п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о характеру повреждения ткан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колот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рва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реза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ы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рубле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ушиблен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укуше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скальпирова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огнестрель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инно-взры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7123-1192-4D0E-81AB-870B66905445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ервая помощь при ранени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77EE-DDAA-40DF-B014-331ABC24D2AB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4"/>
          <p:cNvSpPr/>
          <p:nvPr/>
        </p:nvSpPr>
        <p:spPr>
          <a:xfrm>
            <a:off x="395280" y="1628640"/>
            <a:ext cx="842472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тановить кровотеч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вести противошоковые мероприя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ботать кожу вокруг 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ложить стерильную повязку и закрепить её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езболи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звать скорую медицинскую помощ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ставить  пострадавшего в мед. учрежд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держивать разговор с пострадавш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762120" y="7621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3419640" y="5246640"/>
            <a:ext cx="4824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560" rIns="811080" tIns="914040" bIns="457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2449440" cy="1996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58" name="Rectangle 6"/>
          <p:cNvSpPr/>
          <p:nvPr/>
        </p:nvSpPr>
        <p:spPr>
          <a:xfrm>
            <a:off x="3059280" y="1275120"/>
            <a:ext cx="583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рем бинт или многократно сложенную чистую ткань (например, чистый носовой платок). Прижимаем к ране, чтобы ткань, пропитавшись кровью, преградила воздуху доступ в ра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2"/>
          <a:stretch/>
        </p:blipFill>
        <p:spPr>
          <a:xfrm>
            <a:off x="250920" y="4149720"/>
            <a:ext cx="2411280" cy="1957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60" name="Rectangle 8"/>
          <p:cNvSpPr/>
          <p:nvPr/>
        </p:nvSpPr>
        <p:spPr>
          <a:xfrm>
            <a:off x="2916360" y="476280"/>
            <a:ext cx="62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анение мягких тканей голо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2987640" y="4581360"/>
            <a:ext cx="58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тем фиксируем этот тампон шапкой или косынкой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правляем пациента к врач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Номер слайда 8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19E9-16DC-4276-BA47-39A4C8B2CA62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627084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аны на шее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947600" cy="6237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65" name="Rectangle 7"/>
          <p:cNvSpPr/>
          <p:nvPr/>
        </p:nvSpPr>
        <p:spPr>
          <a:xfrm>
            <a:off x="2700360" y="699120"/>
            <a:ext cx="6119640" cy="58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адим пострадавшего, чтобы он не потерял сознание. Прижмем его рану пальц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д палец подкладываем тампон (многослойную ткань или головку бинта), чтобы загерметизировать ра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зываем "скорую помощь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иногда не обойтись без жгута, чтобы зафиксировать тамп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лаблять жгут нельзя ни на секунду. Чтобы он смог продержаться несколько часов, лучше пропустить его под мыш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Номер слайда 4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69D1-2725-497E-A1A9-B1C5CC5F35B0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395280" y="260280"/>
            <a:ext cx="8424720" cy="6257880"/>
          </a:xfrm>
          <a:prstGeom prst="rect">
            <a:avLst/>
          </a:prstGeom>
          <a:noFill/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Федеральный закон от 21.12.1994 №68 – ФЗ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Arial"/>
              </a:rPr>
              <a:t>«О защите населения и территорий от чрезвычайных ситуаций природного и техногенного характера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ред. от 15.02.201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Arial"/>
              </a:rPr>
              <a:t>Статье 19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 Гражданин Российской Федерации </a:t>
            </a:r>
            <a:r>
              <a:rPr b="1" i="1" lang="ru-RU" sz="2500" spc="-1" strike="noStrike" u="sng">
                <a:solidFill>
                  <a:srgbClr val="ffffff"/>
                </a:solidFill>
                <a:uFillTx/>
                <a:latin typeface="Arial"/>
              </a:rPr>
              <a:t>обязан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- изучить основные способы защиты населения и территорий от чрезвычайных ситуаций, приёмы оказания первой медицинской помощи пострадавшим, правила пользования коллективными и индивидуальными средствами защит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- постоянно совершенствовать свои знания и навыки в указанной област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123B-4030-431F-8FB1-672975148CA5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3995280" y="981000"/>
            <a:ext cx="48243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аживаем пострадавшего, прижимаем erо рану рукой, затем залепливаем пластырем или скотч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402000" cy="20671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1616040" cy="17431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70" name="Номер слайда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8B93-197F-496B-B286-114EB5BA2B45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6"/>
          <p:cNvSpPr/>
          <p:nvPr/>
        </p:nvSpPr>
        <p:spPr>
          <a:xfrm>
            <a:off x="4356000" y="189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анение груд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7"/>
          <p:cNvSpPr/>
          <p:nvPr/>
        </p:nvSpPr>
        <p:spPr>
          <a:xfrm>
            <a:off x="2627280" y="4076640"/>
            <a:ext cx="604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сли из раны (в груди или живете) торчит посторонний предмет, то трогать erо нельзя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бы он не шевелился в ране, зафиксируем его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двумя скатками бинтов и прикрепим их к коже пластырем или скетч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анения живот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3638520" cy="3230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75" name="Picture 6" descr=""/>
          <p:cNvPicPr/>
          <p:nvPr/>
        </p:nvPicPr>
        <p:blipFill>
          <a:blip r:embed="rId2"/>
          <a:stretch/>
        </p:blipFill>
        <p:spPr>
          <a:xfrm>
            <a:off x="8244000" y="4076640"/>
            <a:ext cx="838080" cy="1728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76" name="Rectangle 9"/>
          <p:cNvSpPr/>
          <p:nvPr/>
        </p:nvSpPr>
        <p:spPr>
          <a:xfrm>
            <a:off x="324000" y="25689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3924360" y="1553760"/>
            <a:ext cx="410508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крываем рану чистой салфетк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репляем ее на коже пластырем или скотче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ерху кладем хол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Нельзя: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492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ать пострадавшему пить или предлагать ему обезболивающ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492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огать посторонний предмет, если тот торчит в ра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492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огать внутренности, если те вываливаются наруж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324000" y="765000"/>
            <a:ext cx="849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до уложить пострадавшего на спину, приподняв ему колени и расстегнув поясной реме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Номер слайда 7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EC1C-33A3-4578-A2A7-7A40F2249879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2472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адим или уложим пациента, чтобы рана оказалась выше уровня его груди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195280" y="1268280"/>
            <a:ext cx="244764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неную руку пациента положим себе на плечо. Наложим жгут на артерию выше р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4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1753920" cy="21718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5724360" y="981000"/>
            <a:ext cx="2524320" cy="18162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graphicFrame>
        <p:nvGraphicFramePr>
          <p:cNvPr id="384" name=""/>
          <p:cNvGraphicFramePr/>
          <p:nvPr/>
        </p:nvGraphicFramePr>
        <p:xfrm>
          <a:off x="-1409760" y="-279360"/>
          <a:ext cx="208080" cy="32227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222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2496960" y="3718080"/>
          <a:ext cx="2724120" cy="3139920"/>
        </p:xfrm>
        <a:graphic>
          <a:graphicData uri="http://schemas.openxmlformats.org/drawingml/2006/table">
            <a:tbl>
              <a:tblPr/>
              <a:tblGrid>
                <a:gridCol w="2724120"/>
              </a:tblGrid>
              <a:tr h="3141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кладываем на рану стерильную повязку,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ем обезболивающе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 жгуту прикрепим записку о времени его наложения. Еще раз проверяем пульс.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ксируем руку косынкой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Rectangle 28"/>
          <p:cNvSpPr/>
          <p:nvPr/>
        </p:nvSpPr>
        <p:spPr>
          <a:xfrm>
            <a:off x="5172120" y="3000240"/>
            <a:ext cx="39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тем убедимся, что нет пульса на лучевой арте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29"/>
          <p:cNvSpPr/>
          <p:nvPr/>
        </p:nvSpPr>
        <p:spPr>
          <a:xfrm>
            <a:off x="-1409760" y="-27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Picture 8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1985760" cy="2016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graphicFrame>
        <p:nvGraphicFramePr>
          <p:cNvPr id="389" name=""/>
          <p:cNvGraphicFramePr/>
          <p:nvPr/>
        </p:nvGraphicFramePr>
        <p:xfrm>
          <a:off x="-1409760" y="5211720"/>
          <a:ext cx="208080" cy="149688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1496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Rectangle 44"/>
          <p:cNvSpPr/>
          <p:nvPr/>
        </p:nvSpPr>
        <p:spPr>
          <a:xfrm>
            <a:off x="5364000" y="3970440"/>
            <a:ext cx="3527640" cy="2533320"/>
          </a:xfrm>
          <a:prstGeom prst="rect">
            <a:avLst/>
          </a:prstGeom>
          <a:solidFill>
            <a:srgbClr val="ff505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нимание: до прибытия "скорой помощи" жгут придется снимать каждые 30 минут! Дожидаемся, пока кровь опять пойдет обильно и кожа порозовеет. Затем опять накладываем жгу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Номер слайда 1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3069-E3BC-4EE9-8619-48BF0A761E07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рямоугольник 13"/>
          <p:cNvSpPr/>
          <p:nvPr/>
        </p:nvSpPr>
        <p:spPr>
          <a:xfrm>
            <a:off x="250920" y="0"/>
            <a:ext cx="889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ильное кровотечение из раны на руке</a:t>
            </a:r>
            <a:br>
              <a:rPr sz="22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68000" y="3933360"/>
            <a:ext cx="8280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жимаем бедренную артерию кулаком ниже паховой склад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кладываем жгут на бедро через гладкий твердый предмет (например, головку бинт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кладываем на рану стерильную повязку, даем обезболивающее. К жгуту прикрепим записку с временем erо нало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761080" cy="18525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95" name="Номер слайда 3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CD7A-F521-49EC-91EF-A872FCA05FB7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Прямоугольник 4"/>
          <p:cNvSpPr/>
          <p:nvPr/>
        </p:nvSpPr>
        <p:spPr>
          <a:xfrm>
            <a:off x="1332000" y="47628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ровотечение из бед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50080" cy="5113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98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7AB4-8D94-439C-9FDE-6C8D104734D5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00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EBCF-A86E-4D13-9359-6769D474F0C2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"/>
          <p:cNvPicPr/>
          <p:nvPr/>
        </p:nvPicPr>
        <p:blipFill>
          <a:blip r:embed="rId1"/>
          <a:stretch/>
        </p:blipFill>
        <p:spPr>
          <a:xfrm>
            <a:off x="318960" y="333360"/>
            <a:ext cx="8501040" cy="6048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02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267C-9F0A-473E-9237-FB0379E50602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04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7CB8-38A2-4F90-8A23-D65F0A6B50AB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70800" cy="6048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06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F441-94D6-4206-8ED1-540A5138596E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1042920" y="2708280"/>
            <a:ext cx="7128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ервая помощь при перелома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Номер слайда 4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6362-9DD3-4DCD-A79E-C837CECE4EB2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Прямоугольник 6"/>
          <p:cNvSpPr/>
          <p:nvPr/>
        </p:nvSpPr>
        <p:spPr>
          <a:xfrm>
            <a:off x="468360" y="692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чебный вопрос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324000" y="333360"/>
            <a:ext cx="8569080" cy="6279480"/>
          </a:xfrm>
          <a:prstGeom prst="rect">
            <a:avLst/>
          </a:prstGeom>
          <a:noFill/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едерального закона от 21.11.2011 №323-Ф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Об основах охраны здоровья граждан в Российской Федераци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ред. от 13.07.201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Статья 31. </a:t>
            </a:r>
            <a:r>
              <a:rPr b="1" i="1" lang="ru-RU" sz="2300" spc="-1" strike="noStrike">
                <a:solidFill>
                  <a:srgbClr val="ff9900"/>
                </a:solidFill>
                <a:latin typeface="Arial"/>
              </a:rPr>
              <a:t>Первая помощь</a:t>
            </a:r>
            <a:r>
              <a:rPr b="1" i="1" lang="ru-RU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до оказания медицинской помощи оказывается гражданам при несчастных случаях, травмах, отравлениях и других состояниях и заболеваниях, угрожающих их жизни и здоровью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ПП осуществля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лица, обязанные оказывать ее и имеющие соответствующую подготовк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трудники органов внутренних дел Р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трудники, военнослужащие и работники Государственной противопожарной службы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пасатели аварийно-спасательных формирований и аварийно-спасательных служ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одители транспортных средств и др. лица, имеющие  соответствующую подготовку и (или) навык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739B-0867-4ECA-BE7E-0E56DAA9C1DE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411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CA29-0158-4350-8426-837C146FD0D4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413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7B39-7B1F-479B-83A2-10A6E5AD4CEC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415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803C-07D6-49BE-A7CC-A93A672832E5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248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417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2A56-1A87-43FD-85C8-93DCAEB43910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250920" y="784080"/>
            <a:ext cx="8713800" cy="5305680"/>
          </a:xfrm>
          <a:prstGeom prst="rect">
            <a:avLst/>
          </a:prstGeom>
          <a:ln w="0">
            <a:noFill/>
          </a:ln>
        </p:spPr>
      </p:pic>
      <p:sp>
        <p:nvSpPr>
          <p:cNvPr id="419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F764-5B21-49CB-AB4C-AD515C73DA45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421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9CC6-CF91-4D6F-BD0F-00E5F245EEAF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569080" cy="548784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423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A019-1B40-41A3-81C2-A5B3D845655C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359560" cy="381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азание первой помощи при термических и химических ожогах, поражении электрическим токо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5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28EF-FD77-4871-9D6D-A469C4DCD65C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3"/>
          <p:cNvSpPr/>
          <p:nvPr/>
        </p:nvSpPr>
        <p:spPr>
          <a:xfrm>
            <a:off x="1619280" y="836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чебный вопрос 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тепени термических ожого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468360" y="1052640"/>
            <a:ext cx="8280360" cy="2954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верхностные ожог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степень – боль, покраснение ко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степень – боль, покраснение кожи, отек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зыр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тепень – пузыри с кровянистой жидкость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468360" y="4149720"/>
            <a:ext cx="8280360" cy="2448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                             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Глубокие ожог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епень – пузыри с кровянистой жидкость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п, гнойное воспа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епень – коричневые или черные струпь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гливание кожи, мышц, сухожили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т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Номер слайда 4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2911-8955-4DF2-A3EC-2D13A586B621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085320" cy="68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32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D8BB-565E-4DD9-A27E-C8C55379FCF2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226360" cy="795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чебный вопрос 1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392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ави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 порядок оказания первой помощи себе и пострадавшим при Ч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1"/>
          <a:stretch/>
        </p:blipFill>
        <p:spPr>
          <a:xfrm>
            <a:off x="4427640" y="1052640"/>
            <a:ext cx="2160360" cy="25318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27" name="Picture 9" descr=""/>
          <p:cNvPicPr/>
          <p:nvPr/>
        </p:nvPicPr>
        <p:blipFill>
          <a:blip r:embed="rId2"/>
          <a:stretch/>
        </p:blipFill>
        <p:spPr>
          <a:xfrm>
            <a:off x="4427640" y="3789360"/>
            <a:ext cx="2160360" cy="28796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28" name="Picture 11" descr=""/>
          <p:cNvPicPr/>
          <p:nvPr/>
        </p:nvPicPr>
        <p:blipFill>
          <a:blip r:embed="rId3"/>
          <a:stretch/>
        </p:blipFill>
        <p:spPr>
          <a:xfrm>
            <a:off x="6659640" y="2492280"/>
            <a:ext cx="2305080" cy="2737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"/>
          <p:cNvPicPr/>
          <p:nvPr/>
        </p:nvPicPr>
        <p:blipFill>
          <a:blip r:embed="rId4"/>
          <a:stretch/>
        </p:blipFill>
        <p:spPr>
          <a:xfrm>
            <a:off x="6875640" y="2421000"/>
            <a:ext cx="2149200" cy="2808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30" name="Номер слайда 7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C320-33B1-4186-8037-03AC39ED0A8D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34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0A5E-FD40-4AC9-9C53-FD405548CC8D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539280" y="1413000"/>
            <a:ext cx="8280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Химический ожог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это ожог возникший от воздействия на тел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концентрированных кислот (соляная, серная, азотная, уксусная, карболовая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щелочей (едкого калия, едкого натра, нашатырного спирта, негашеной извести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фосфор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некоторых солей тяжелых металлов (серебра нитрат, цинка хлорид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44A5-290A-4D63-B33F-52339A590CFE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7932600" cy="563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П при химических ожогах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94920" y="1196640"/>
            <a:ext cx="8286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нцентрированными кислотами (кроме серной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поверхность необходимо в течение 15-20 минут обмыть струей холодной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ерной кислотой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бмыть мыльной водой, 3% раствором питьевой с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щелочам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поверхность необходимо промыть струей воды, а затем обработать 2% раствором уксусной или лимонной кисл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осфор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- смыть сильной струей воды,  обработать 5% раствором медного купороса и закрыть стерильной повяз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гашеной известью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бработать поверхность маслом и закрыть марлевой повяз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9917-15A6-4E61-88F8-A7FECAF9A6E6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28720" y="1414080"/>
            <a:ext cx="7972560" cy="26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лектротравм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повреждение электрическим током различной степени тяжести в зависимости от характеристики тока, длительности действия тока, состояния организ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F61B-B58F-45C8-8CBB-46B2BE140378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755640" y="333360"/>
            <a:ext cx="7561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Электрический удар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возбуждение живых тканей организма проходящим через него электрическим током сопровождающееся сокращением мыш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25E4-7DB8-460B-8965-7AE2CD33FF62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Box 3"/>
          <p:cNvSpPr/>
          <p:nvPr/>
        </p:nvSpPr>
        <p:spPr>
          <a:xfrm>
            <a:off x="358920" y="2763720"/>
            <a:ext cx="87850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ТЕПЕНИ ЭЛЕКТРИЧЕСКОГО УД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I - судорожное сокращение мышц без потери созн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II - судорожное сокращение мышц  с потерей сознания, но с дыханием и работой серд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III - потеря сознания и нарушения сердечной деятельности и (или) дых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IV - клиническая смер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Схема действий в случаях поражения электрическим током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46" name="Picture 5" descr=""/>
          <p:cNvPicPr/>
          <p:nvPr/>
        </p:nvPicPr>
        <p:blipFill>
          <a:blip r:embed="rId1"/>
          <a:srcRect l="72650" t="2163" r="10068" b="78997"/>
          <a:stretch/>
        </p:blipFill>
        <p:spPr>
          <a:xfrm>
            <a:off x="250920" y="1857240"/>
            <a:ext cx="865080" cy="827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47" name="Picture 7" descr=""/>
          <p:cNvPicPr/>
          <p:nvPr/>
        </p:nvPicPr>
        <p:blipFill>
          <a:blip r:embed="rId2"/>
          <a:stretch/>
        </p:blipFill>
        <p:spPr>
          <a:xfrm>
            <a:off x="250920" y="2781360"/>
            <a:ext cx="858600" cy="877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48" name="Picture 9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858600" cy="847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49" name="Rectangle 4"/>
          <p:cNvSpPr/>
          <p:nvPr/>
        </p:nvSpPr>
        <p:spPr>
          <a:xfrm>
            <a:off x="179280" y="1125360"/>
            <a:ext cx="8785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сли нет сознания и нет пульса на сонной арте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11" descr=""/>
          <p:cNvPicPr/>
          <p:nvPr/>
        </p:nvPicPr>
        <p:blipFill>
          <a:blip r:embed="rId4"/>
          <a:stretch/>
        </p:blipFill>
        <p:spPr>
          <a:xfrm>
            <a:off x="250920" y="4797360"/>
            <a:ext cx="858600" cy="847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51" name="Picture 13" descr=""/>
          <p:cNvPicPr/>
          <p:nvPr/>
        </p:nvPicPr>
        <p:blipFill>
          <a:blip r:embed="rId5"/>
          <a:stretch/>
        </p:blipFill>
        <p:spPr>
          <a:xfrm>
            <a:off x="250920" y="5805360"/>
            <a:ext cx="863640" cy="838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52" name="Picture 14" descr=""/>
          <p:cNvPicPr/>
          <p:nvPr/>
        </p:nvPicPr>
        <p:blipFill>
          <a:blip r:embed="rId6"/>
          <a:stretch/>
        </p:blipFill>
        <p:spPr>
          <a:xfrm>
            <a:off x="4572000" y="1844640"/>
            <a:ext cx="851040" cy="838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53" name="Picture 15" descr=""/>
          <p:cNvPicPr/>
          <p:nvPr/>
        </p:nvPicPr>
        <p:blipFill>
          <a:blip r:embed="rId7"/>
          <a:stretch/>
        </p:blipFill>
        <p:spPr>
          <a:xfrm>
            <a:off x="4572000" y="4724280"/>
            <a:ext cx="851040" cy="838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54" name="Picture 16" descr=""/>
          <p:cNvPicPr/>
          <p:nvPr/>
        </p:nvPicPr>
        <p:blipFill>
          <a:blip r:embed="rId8"/>
          <a:stretch/>
        </p:blipFill>
        <p:spPr>
          <a:xfrm>
            <a:off x="4572000" y="2852640"/>
            <a:ext cx="863640" cy="838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55" name="Picture 17" descr=""/>
          <p:cNvPicPr/>
          <p:nvPr/>
        </p:nvPicPr>
        <p:blipFill>
          <a:blip r:embed="rId9"/>
          <a:stretch/>
        </p:blipFill>
        <p:spPr>
          <a:xfrm>
            <a:off x="4572000" y="3789360"/>
            <a:ext cx="863640" cy="838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56" name="Picture 18" descr=""/>
          <p:cNvPicPr/>
          <p:nvPr/>
        </p:nvPicPr>
        <p:blipFill>
          <a:blip r:embed="rId10"/>
          <a:srcRect l="71886" t="70032" r="11570" b="11454"/>
          <a:stretch/>
        </p:blipFill>
        <p:spPr>
          <a:xfrm>
            <a:off x="4572000" y="5734080"/>
            <a:ext cx="888840" cy="876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457" name="Rectangle 19"/>
          <p:cNvSpPr/>
          <p:nvPr/>
        </p:nvSpPr>
        <p:spPr>
          <a:xfrm>
            <a:off x="1187280" y="1773360"/>
            <a:ext cx="3313440" cy="4895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лючить источ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ктро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бедиться, что 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льса на сон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нести уда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лаком по груд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ть холод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ло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поднять но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20"/>
          <p:cNvSpPr/>
          <p:nvPr/>
        </p:nvSpPr>
        <p:spPr>
          <a:xfrm>
            <a:off x="5651640" y="1773360"/>
            <a:ext cx="3313080" cy="4824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делать «вдох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кусствен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ых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ть непрям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саж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лж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нимац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язатель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тавить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ни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Номер слайда 1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1CB3-7917-44C9-9E3C-84161772064B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Схема действий в случаях поражения электрическим током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250920" y="1125360"/>
            <a:ext cx="871380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сли нет сознания и нет пульса на сонной арте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20"/>
          <p:cNvSpPr/>
          <p:nvPr/>
        </p:nvSpPr>
        <p:spPr>
          <a:xfrm>
            <a:off x="324000" y="2060640"/>
            <a:ext cx="8640720" cy="34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еобходим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 прибытия вра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тоянно контролировать пуль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сонной артери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как  может произой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торная остановка серд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Номер слайда 4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162E-54D7-4709-9F78-7F86C7E30553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Схема действий в случаях поражения электрическим током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65" name="Picture 3" descr=""/>
          <p:cNvPicPr/>
          <p:nvPr/>
        </p:nvPicPr>
        <p:blipFill>
          <a:blip r:embed="rId1"/>
          <a:srcRect l="72650" t="2163" r="10068" b="78997"/>
          <a:stretch/>
        </p:blipFill>
        <p:spPr>
          <a:xfrm>
            <a:off x="250920" y="1857240"/>
            <a:ext cx="865080" cy="827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66" name="Picture 4" descr=""/>
          <p:cNvPicPr/>
          <p:nvPr/>
        </p:nvPicPr>
        <p:blipFill>
          <a:blip r:embed="rId2"/>
          <a:stretch/>
        </p:blipFill>
        <p:spPr>
          <a:xfrm>
            <a:off x="250920" y="2997360"/>
            <a:ext cx="858600" cy="877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67" name="Picture 7" descr=""/>
          <p:cNvPicPr/>
          <p:nvPr/>
        </p:nvPicPr>
        <p:blipFill>
          <a:blip r:embed="rId3"/>
          <a:stretch/>
        </p:blipFill>
        <p:spPr>
          <a:xfrm>
            <a:off x="250920" y="5516640"/>
            <a:ext cx="858600" cy="847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68" name="Rectangle 6"/>
          <p:cNvSpPr/>
          <p:nvPr/>
        </p:nvSpPr>
        <p:spPr>
          <a:xfrm>
            <a:off x="179280" y="1125360"/>
            <a:ext cx="8785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сли нет сознания, но есть пульс на сонной арте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13" descr=""/>
          <p:cNvPicPr/>
          <p:nvPr/>
        </p:nvPicPr>
        <p:blipFill>
          <a:blip r:embed="rId4"/>
          <a:srcRect l="71886" t="70032" r="11570" b="11454"/>
          <a:stretch/>
        </p:blipFill>
        <p:spPr>
          <a:xfrm>
            <a:off x="4500720" y="5373720"/>
            <a:ext cx="888840" cy="876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70" name="Picture 17" descr=""/>
          <p:cNvPicPr/>
          <p:nvPr/>
        </p:nvPicPr>
        <p:blipFill>
          <a:blip r:embed="rId5"/>
          <a:srcRect l="49140" t="3771" r="33956" b="67897"/>
          <a:stretch/>
        </p:blipFill>
        <p:spPr>
          <a:xfrm>
            <a:off x="250920" y="4292640"/>
            <a:ext cx="865080" cy="869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71" name="Picture 19" descr=""/>
          <p:cNvPicPr/>
          <p:nvPr/>
        </p:nvPicPr>
        <p:blipFill>
          <a:blip r:embed="rId6"/>
          <a:stretch/>
        </p:blipFill>
        <p:spPr>
          <a:xfrm>
            <a:off x="4643280" y="1844640"/>
            <a:ext cx="851040" cy="8254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72" name="Picture 20" descr=""/>
          <p:cNvPicPr/>
          <p:nvPr/>
        </p:nvPicPr>
        <p:blipFill>
          <a:blip r:embed="rId7"/>
          <a:stretch/>
        </p:blipFill>
        <p:spPr>
          <a:xfrm>
            <a:off x="4572000" y="3645000"/>
            <a:ext cx="876240" cy="850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73" name="Rectangle 21"/>
          <p:cNvSpPr/>
          <p:nvPr/>
        </p:nvSpPr>
        <p:spPr>
          <a:xfrm>
            <a:off x="1258920" y="1773360"/>
            <a:ext cx="3097080" cy="4751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люч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ктро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бедиться, ч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 пульс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нной ар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ернуть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вот и очист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ть холод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ло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22"/>
          <p:cNvSpPr/>
          <p:nvPr/>
        </p:nvSpPr>
        <p:spPr>
          <a:xfrm>
            <a:off x="5580000" y="1773360"/>
            <a:ext cx="3168720" cy="4751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ож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я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ожить ш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язатель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тав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больни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Номер слайда 1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6AF5-4168-480D-95BE-B9FC47A3DA6E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Схема действий в случаях поражения электрическим током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179280" y="1125360"/>
            <a:ext cx="8785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сли нет сознания, но есть пульс на сонной арте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17"/>
          <p:cNvSpPr/>
          <p:nvPr/>
        </p:nvSpPr>
        <p:spPr>
          <a:xfrm>
            <a:off x="179280" y="1989000"/>
            <a:ext cx="8785440" cy="1944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 электрических ожогах и ран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ложить повяз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 переломах костей конечнос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ложить ш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18"/>
          <p:cNvSpPr/>
          <p:nvPr/>
        </p:nvSpPr>
        <p:spPr>
          <a:xfrm>
            <a:off x="250920" y="4292640"/>
            <a:ext cx="8642160" cy="2016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допустим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касаться к пострадавше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 предварительного обеспе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кращать реанимационные 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прибытия врач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19"/>
          <p:cNvSpPr/>
          <p:nvPr/>
        </p:nvSpPr>
        <p:spPr>
          <a:xfrm>
            <a:off x="4427640" y="2852640"/>
            <a:ext cx="287280" cy="2160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AutoShape 20"/>
          <p:cNvSpPr/>
          <p:nvPr/>
        </p:nvSpPr>
        <p:spPr>
          <a:xfrm>
            <a:off x="4427640" y="2781360"/>
            <a:ext cx="360360" cy="287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AutoShape 21"/>
          <p:cNvSpPr/>
          <p:nvPr/>
        </p:nvSpPr>
        <p:spPr>
          <a:xfrm>
            <a:off x="4356000" y="5300640"/>
            <a:ext cx="289080" cy="287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Номер слайда 8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63F6-E8A7-4462-AC27-0145EE5C4775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356000" y="2205000"/>
            <a:ext cx="4788000" cy="338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Универсальная аптечка бытовая для насел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5" name="Содержимое 8" descr="бытовая аптечка.jpeg"/>
          <p:cNvPicPr/>
          <p:nvPr/>
        </p:nvPicPr>
        <p:blipFill>
          <a:blip r:embed="rId1"/>
          <a:stretch/>
        </p:blipFill>
        <p:spPr>
          <a:xfrm>
            <a:off x="250920" y="1700280"/>
            <a:ext cx="4176720" cy="4537080"/>
          </a:xfrm>
          <a:prstGeom prst="rect">
            <a:avLst/>
          </a:prstGeom>
          <a:ln w="0">
            <a:noFill/>
          </a:ln>
        </p:spPr>
      </p:pic>
      <p:sp>
        <p:nvSpPr>
          <p:cNvPr id="486" name="Номер слайда 6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E949-B309-4645-BE14-CCD545F87024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Прямоугольник 7"/>
          <p:cNvSpPr/>
          <p:nvPr/>
        </p:nvSpPr>
        <p:spPr>
          <a:xfrm>
            <a:off x="250920" y="33336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чебный вопрос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50920" y="404640"/>
            <a:ext cx="8497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Первая помощь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это комплекс простейших  мероприятий, проводимых на месте поражения или вблизи от него самим пострадавшим (самопомощь) или другим лицом (взаимопомощь) с использованием табельных или подручных средств оказания помощ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Основная цель первой помощ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транение дальнейшего воздействия поражающего фактора, последствий поражения, угрожающих жизни пострадавшего и предупреждение развития опасных для жизни осложн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44E6-2B54-4F03-8D47-935B5BD61AA2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152280" y="152280"/>
            <a:ext cx="8839440" cy="458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Схема действий по определению признаков жизни пострадавшег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Group 3"/>
          <p:cNvGrpSpPr/>
          <p:nvPr/>
        </p:nvGrpSpPr>
        <p:grpSpPr>
          <a:xfrm>
            <a:off x="307800" y="841320"/>
            <a:ext cx="8835840" cy="6016680"/>
            <a:chOff x="307800" y="841320"/>
            <a:chExt cx="8835840" cy="6016680"/>
          </a:xfrm>
        </p:grpSpPr>
        <p:grpSp>
          <p:nvGrpSpPr>
            <p:cNvPr id="490" name="Group 4"/>
            <p:cNvGrpSpPr/>
            <p:nvPr/>
          </p:nvGrpSpPr>
          <p:grpSpPr>
            <a:xfrm>
              <a:off x="318960" y="843120"/>
              <a:ext cx="8813520" cy="6013440"/>
              <a:chOff x="318960" y="843120"/>
              <a:chExt cx="8813520" cy="6013440"/>
            </a:xfrm>
          </p:grpSpPr>
          <p:grpSp>
            <p:nvGrpSpPr>
              <p:cNvPr id="491" name="Group 5"/>
              <p:cNvGrpSpPr/>
              <p:nvPr/>
            </p:nvGrpSpPr>
            <p:grpSpPr>
              <a:xfrm>
                <a:off x="318960" y="843120"/>
                <a:ext cx="4168800" cy="501480"/>
                <a:chOff x="318960" y="843120"/>
                <a:chExt cx="4168800" cy="501480"/>
              </a:xfrm>
            </p:grpSpPr>
            <p:sp>
              <p:nvSpPr>
                <p:cNvPr id="492" name="Rectangle 6"/>
                <p:cNvSpPr/>
                <p:nvPr/>
              </p:nvSpPr>
              <p:spPr>
                <a:xfrm>
                  <a:off x="396720" y="843120"/>
                  <a:ext cx="4012920" cy="50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00"/>
                      </a:solidFill>
                      <a:latin typeface="Times New Roman"/>
                    </a:rPr>
                    <a:t>Оценка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Rectangle 7"/>
                <p:cNvSpPr/>
                <p:nvPr/>
              </p:nvSpPr>
              <p:spPr>
                <a:xfrm>
                  <a:off x="318960" y="849240"/>
                  <a:ext cx="4168800" cy="4892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Group 8"/>
              <p:cNvGrpSpPr/>
              <p:nvPr/>
            </p:nvGrpSpPr>
            <p:grpSpPr>
              <a:xfrm>
                <a:off x="4500360" y="843120"/>
                <a:ext cx="1976400" cy="501480"/>
                <a:chOff x="4500360" y="843120"/>
                <a:chExt cx="1976400" cy="501480"/>
              </a:xfrm>
            </p:grpSpPr>
            <p:sp>
              <p:nvSpPr>
                <p:cNvPr id="495" name="Rectangle 9"/>
                <p:cNvSpPr/>
                <p:nvPr/>
              </p:nvSpPr>
              <p:spPr>
                <a:xfrm>
                  <a:off x="4578120" y="843120"/>
                  <a:ext cx="1820880" cy="50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00"/>
                      </a:solidFill>
                      <a:latin typeface="Times New Roman"/>
                    </a:rPr>
                    <a:t>Состояние  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Rectangle 10"/>
                <p:cNvSpPr/>
                <p:nvPr/>
              </p:nvSpPr>
              <p:spPr>
                <a:xfrm>
                  <a:off x="4500360" y="849240"/>
                  <a:ext cx="1976400" cy="4892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11"/>
              <p:cNvGrpSpPr/>
              <p:nvPr/>
            </p:nvGrpSpPr>
            <p:grpSpPr>
              <a:xfrm>
                <a:off x="6489360" y="843120"/>
                <a:ext cx="2643120" cy="501480"/>
                <a:chOff x="6489360" y="843120"/>
                <a:chExt cx="2643120" cy="501480"/>
              </a:xfrm>
            </p:grpSpPr>
            <p:sp>
              <p:nvSpPr>
                <p:cNvPr id="498" name="Rectangle 12"/>
                <p:cNvSpPr/>
                <p:nvPr/>
              </p:nvSpPr>
              <p:spPr>
                <a:xfrm>
                  <a:off x="6567120" y="843120"/>
                  <a:ext cx="2487600" cy="50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00"/>
                      </a:solidFill>
                      <a:latin typeface="Times New Roman"/>
                    </a:rPr>
                    <a:t>Действия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Rectangle 13"/>
                <p:cNvSpPr/>
                <p:nvPr/>
              </p:nvSpPr>
              <p:spPr>
                <a:xfrm>
                  <a:off x="6489360" y="849240"/>
                  <a:ext cx="2643120" cy="4892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Group 14"/>
              <p:cNvGrpSpPr/>
              <p:nvPr/>
            </p:nvGrpSpPr>
            <p:grpSpPr>
              <a:xfrm>
                <a:off x="318960" y="1344600"/>
                <a:ext cx="1284120" cy="979560"/>
                <a:chOff x="318960" y="1344600"/>
                <a:chExt cx="1284120" cy="979560"/>
              </a:xfrm>
            </p:grpSpPr>
            <p:sp>
              <p:nvSpPr>
                <p:cNvPr id="501" name="Rectangle 15"/>
                <p:cNvSpPr/>
                <p:nvPr/>
              </p:nvSpPr>
              <p:spPr>
                <a:xfrm>
                  <a:off x="396720" y="1344600"/>
                  <a:ext cx="112860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Реакция 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есть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Rectangle 16"/>
                <p:cNvSpPr/>
                <p:nvPr/>
              </p:nvSpPr>
              <p:spPr>
                <a:xfrm>
                  <a:off x="318960" y="1351080"/>
                  <a:ext cx="128412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17"/>
              <p:cNvGrpSpPr/>
              <p:nvPr/>
            </p:nvGrpSpPr>
            <p:grpSpPr>
              <a:xfrm>
                <a:off x="1615680" y="1344600"/>
                <a:ext cx="1430640" cy="979560"/>
                <a:chOff x="1615680" y="1344600"/>
                <a:chExt cx="1430640" cy="979560"/>
              </a:xfrm>
            </p:grpSpPr>
            <p:sp>
              <p:nvSpPr>
                <p:cNvPr id="504" name="Rectangle 18"/>
                <p:cNvSpPr/>
                <p:nvPr/>
              </p:nvSpPr>
              <p:spPr>
                <a:xfrm>
                  <a:off x="1693440" y="1344600"/>
                  <a:ext cx="127476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ffff"/>
                      </a:solidFill>
                      <a:latin typeface="Times New Roman"/>
                    </a:rPr>
                    <a:t>_________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Rectangle 19"/>
                <p:cNvSpPr/>
                <p:nvPr/>
              </p:nvSpPr>
              <p:spPr>
                <a:xfrm>
                  <a:off x="1615680" y="1351080"/>
                  <a:ext cx="143064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20"/>
              <p:cNvGrpSpPr/>
              <p:nvPr/>
            </p:nvGrpSpPr>
            <p:grpSpPr>
              <a:xfrm>
                <a:off x="3058920" y="1344600"/>
                <a:ext cx="1428840" cy="979560"/>
                <a:chOff x="3058920" y="1344600"/>
                <a:chExt cx="1428840" cy="979560"/>
              </a:xfrm>
            </p:grpSpPr>
            <p:sp>
              <p:nvSpPr>
                <p:cNvPr id="507" name="Rectangle 21"/>
                <p:cNvSpPr/>
                <p:nvPr/>
              </p:nvSpPr>
              <p:spPr>
                <a:xfrm>
                  <a:off x="3136680" y="1344600"/>
                  <a:ext cx="127296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ffff"/>
                      </a:solidFill>
                      <a:latin typeface="Times New Roman"/>
                    </a:rPr>
                    <a:t>_________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Rectangle 22"/>
                <p:cNvSpPr/>
                <p:nvPr/>
              </p:nvSpPr>
              <p:spPr>
                <a:xfrm>
                  <a:off x="3058920" y="1351080"/>
                  <a:ext cx="142884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Group 23"/>
              <p:cNvGrpSpPr/>
              <p:nvPr/>
            </p:nvGrpSpPr>
            <p:grpSpPr>
              <a:xfrm>
                <a:off x="4500360" y="1344600"/>
                <a:ext cx="1976400" cy="979560"/>
                <a:chOff x="4500360" y="1344600"/>
                <a:chExt cx="1976400" cy="979560"/>
              </a:xfrm>
            </p:grpSpPr>
            <p:sp>
              <p:nvSpPr>
                <p:cNvPr id="510" name="Rectangle 24"/>
                <p:cNvSpPr/>
                <p:nvPr/>
              </p:nvSpPr>
              <p:spPr>
                <a:xfrm>
                  <a:off x="4578120" y="1344600"/>
                  <a:ext cx="182088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Реагирует, но                   состояние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может ухудшаться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Rectangle 25"/>
                <p:cNvSpPr/>
                <p:nvPr/>
              </p:nvSpPr>
              <p:spPr>
                <a:xfrm>
                  <a:off x="4500360" y="1351080"/>
                  <a:ext cx="197640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Group 26"/>
              <p:cNvGrpSpPr/>
              <p:nvPr/>
            </p:nvGrpSpPr>
            <p:grpSpPr>
              <a:xfrm>
                <a:off x="6489360" y="1344600"/>
                <a:ext cx="2643120" cy="979560"/>
                <a:chOff x="6489360" y="1344600"/>
                <a:chExt cx="2643120" cy="979560"/>
              </a:xfrm>
            </p:grpSpPr>
            <p:sp>
              <p:nvSpPr>
                <p:cNvPr id="513" name="Rectangle 27"/>
                <p:cNvSpPr/>
                <p:nvPr/>
              </p:nvSpPr>
              <p:spPr>
                <a:xfrm>
                  <a:off x="6567120" y="1344600"/>
                  <a:ext cx="248760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Контролируйте</a:t>
                  </a:r>
                  <a:r>
                    <a:rPr b="1" lang="ru-RU" sz="16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дальше состояние       пострадавшего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Rectangle 28"/>
                <p:cNvSpPr/>
                <p:nvPr/>
              </p:nvSpPr>
              <p:spPr>
                <a:xfrm>
                  <a:off x="6489360" y="1351080"/>
                  <a:ext cx="264312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Group 29"/>
              <p:cNvGrpSpPr/>
              <p:nvPr/>
            </p:nvGrpSpPr>
            <p:grpSpPr>
              <a:xfrm>
                <a:off x="318960" y="2324160"/>
                <a:ext cx="1284120" cy="979560"/>
                <a:chOff x="318960" y="2324160"/>
                <a:chExt cx="1284120" cy="979560"/>
              </a:xfrm>
            </p:grpSpPr>
            <p:sp>
              <p:nvSpPr>
                <p:cNvPr id="516" name="Rectangle 30"/>
                <p:cNvSpPr/>
                <p:nvPr/>
              </p:nvSpPr>
              <p:spPr>
                <a:xfrm>
                  <a:off x="396720" y="2324160"/>
                  <a:ext cx="112860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Реакция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не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Rectangle 31"/>
                <p:cNvSpPr/>
                <p:nvPr/>
              </p:nvSpPr>
              <p:spPr>
                <a:xfrm>
                  <a:off x="318960" y="2330640"/>
                  <a:ext cx="128412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Group 32"/>
              <p:cNvGrpSpPr/>
              <p:nvPr/>
            </p:nvGrpSpPr>
            <p:grpSpPr>
              <a:xfrm>
                <a:off x="1615680" y="2324160"/>
                <a:ext cx="1430640" cy="979560"/>
                <a:chOff x="1615680" y="2324160"/>
                <a:chExt cx="1430640" cy="979560"/>
              </a:xfrm>
            </p:grpSpPr>
            <p:sp>
              <p:nvSpPr>
                <p:cNvPr id="519" name="Rectangle 33"/>
                <p:cNvSpPr/>
                <p:nvPr/>
              </p:nvSpPr>
              <p:spPr>
                <a:xfrm>
                  <a:off x="1693440" y="2324160"/>
                  <a:ext cx="127476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Дыхание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есть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Rectangle 34"/>
                <p:cNvSpPr/>
                <p:nvPr/>
              </p:nvSpPr>
              <p:spPr>
                <a:xfrm>
                  <a:off x="1615680" y="2330640"/>
                  <a:ext cx="143064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" name="Group 35"/>
              <p:cNvGrpSpPr/>
              <p:nvPr/>
            </p:nvGrpSpPr>
            <p:grpSpPr>
              <a:xfrm>
                <a:off x="3058920" y="2324160"/>
                <a:ext cx="1428840" cy="979560"/>
                <a:chOff x="3058920" y="2324160"/>
                <a:chExt cx="1428840" cy="979560"/>
              </a:xfrm>
            </p:grpSpPr>
            <p:sp>
              <p:nvSpPr>
                <p:cNvPr id="522" name="Rectangle 36"/>
                <p:cNvSpPr/>
                <p:nvPr/>
              </p:nvSpPr>
              <p:spPr>
                <a:xfrm>
                  <a:off x="3136680" y="2324160"/>
                  <a:ext cx="127296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Пульс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есть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Rectangle 37"/>
                <p:cNvSpPr/>
                <p:nvPr/>
              </p:nvSpPr>
              <p:spPr>
                <a:xfrm>
                  <a:off x="3058920" y="2330640"/>
                  <a:ext cx="142884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38"/>
              <p:cNvGrpSpPr/>
              <p:nvPr/>
            </p:nvGrpSpPr>
            <p:grpSpPr>
              <a:xfrm>
                <a:off x="4500360" y="2324160"/>
                <a:ext cx="1976400" cy="979560"/>
                <a:chOff x="4500360" y="2324160"/>
                <a:chExt cx="1976400" cy="979560"/>
              </a:xfrm>
            </p:grpSpPr>
            <p:sp>
              <p:nvSpPr>
                <p:cNvPr id="525" name="Rectangle 39"/>
                <p:cNvSpPr/>
                <p:nvPr/>
              </p:nvSpPr>
              <p:spPr>
                <a:xfrm>
                  <a:off x="4578120" y="2324160"/>
                  <a:ext cx="182088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Реакции нет</a:t>
                  </a: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Rectangle 40"/>
                <p:cNvSpPr/>
                <p:nvPr/>
              </p:nvSpPr>
              <p:spPr>
                <a:xfrm>
                  <a:off x="4500360" y="2330640"/>
                  <a:ext cx="197640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Group 41"/>
              <p:cNvGrpSpPr/>
              <p:nvPr/>
            </p:nvGrpSpPr>
            <p:grpSpPr>
              <a:xfrm>
                <a:off x="6489360" y="2324160"/>
                <a:ext cx="2643120" cy="979560"/>
                <a:chOff x="6489360" y="2324160"/>
                <a:chExt cx="2643120" cy="979560"/>
              </a:xfrm>
            </p:grpSpPr>
            <p:sp>
              <p:nvSpPr>
                <p:cNvPr id="528" name="Rectangle 42"/>
                <p:cNvSpPr/>
                <p:nvPr/>
              </p:nvSpPr>
              <p:spPr>
                <a:xfrm>
                  <a:off x="6567120" y="2324160"/>
                  <a:ext cx="248760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10800" bIns="10800" anchor="b">
                  <a:noAutofit/>
                </a:bodyPr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ffff"/>
                      </a:solidFill>
                      <a:latin typeface="Times New Roman"/>
                    </a:rPr>
                    <a:t>-- </a:t>
                  </a: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Вторичный осмотр.    -Восстановительное                                                                              положение.                      - Звоните «03».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Rectangle 43"/>
                <p:cNvSpPr/>
                <p:nvPr/>
              </p:nvSpPr>
              <p:spPr>
                <a:xfrm>
                  <a:off x="6489360" y="2330640"/>
                  <a:ext cx="264312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Group 44"/>
              <p:cNvGrpSpPr/>
              <p:nvPr/>
            </p:nvGrpSpPr>
            <p:grpSpPr>
              <a:xfrm>
                <a:off x="318960" y="3303720"/>
                <a:ext cx="1284120" cy="1776240"/>
                <a:chOff x="318960" y="3303720"/>
                <a:chExt cx="1284120" cy="1776240"/>
              </a:xfrm>
            </p:grpSpPr>
            <p:sp>
              <p:nvSpPr>
                <p:cNvPr id="531" name="Rectangle 45"/>
                <p:cNvSpPr/>
                <p:nvPr/>
              </p:nvSpPr>
              <p:spPr>
                <a:xfrm>
                  <a:off x="396720" y="3303720"/>
                  <a:ext cx="1128600" cy="17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Реакция   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нет</a:t>
                  </a:r>
                  <a:r>
                    <a:rPr b="1" lang="ru-RU" sz="14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Rectangle 46"/>
                <p:cNvSpPr/>
                <p:nvPr/>
              </p:nvSpPr>
              <p:spPr>
                <a:xfrm>
                  <a:off x="318960" y="3310200"/>
                  <a:ext cx="128412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Group 47"/>
              <p:cNvGrpSpPr/>
              <p:nvPr/>
            </p:nvGrpSpPr>
            <p:grpSpPr>
              <a:xfrm>
                <a:off x="1615680" y="3303720"/>
                <a:ext cx="1430640" cy="1776240"/>
                <a:chOff x="1615680" y="3303720"/>
                <a:chExt cx="1430640" cy="1776240"/>
              </a:xfrm>
            </p:grpSpPr>
            <p:sp>
              <p:nvSpPr>
                <p:cNvPr id="534" name="Rectangle 48"/>
                <p:cNvSpPr/>
                <p:nvPr/>
              </p:nvSpPr>
              <p:spPr>
                <a:xfrm>
                  <a:off x="1693440" y="3303720"/>
                  <a:ext cx="1274760" cy="17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Дыхание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не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Rectangle 49"/>
                <p:cNvSpPr/>
                <p:nvPr/>
              </p:nvSpPr>
              <p:spPr>
                <a:xfrm>
                  <a:off x="1615680" y="3310200"/>
                  <a:ext cx="143064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" name="Group 50"/>
              <p:cNvGrpSpPr/>
              <p:nvPr/>
            </p:nvGrpSpPr>
            <p:grpSpPr>
              <a:xfrm>
                <a:off x="3058920" y="3303720"/>
                <a:ext cx="1428840" cy="1776240"/>
                <a:chOff x="3058920" y="3303720"/>
                <a:chExt cx="1428840" cy="1776240"/>
              </a:xfrm>
            </p:grpSpPr>
            <p:sp>
              <p:nvSpPr>
                <p:cNvPr id="537" name="Rectangle 51"/>
                <p:cNvSpPr/>
                <p:nvPr/>
              </p:nvSpPr>
              <p:spPr>
                <a:xfrm>
                  <a:off x="3136680" y="3303720"/>
                  <a:ext cx="1272960" cy="17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Пульс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есть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Rectangle 52"/>
                <p:cNvSpPr/>
                <p:nvPr/>
              </p:nvSpPr>
              <p:spPr>
                <a:xfrm>
                  <a:off x="3058920" y="3310200"/>
                  <a:ext cx="142884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Group 53"/>
              <p:cNvGrpSpPr/>
              <p:nvPr/>
            </p:nvGrpSpPr>
            <p:grpSpPr>
              <a:xfrm>
                <a:off x="4500360" y="3303720"/>
                <a:ext cx="1976400" cy="1776240"/>
                <a:chOff x="4500360" y="3303720"/>
                <a:chExt cx="1976400" cy="1776240"/>
              </a:xfrm>
            </p:grpSpPr>
            <p:sp>
              <p:nvSpPr>
                <p:cNvPr id="540" name="Rectangle 54"/>
                <p:cNvSpPr/>
                <p:nvPr/>
              </p:nvSpPr>
              <p:spPr>
                <a:xfrm>
                  <a:off x="4578120" y="3303720"/>
                  <a:ext cx="1820880" cy="17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Дыхания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нет</a:t>
                  </a:r>
                  <a:r>
                    <a:rPr b="1" lang="ru-RU" sz="1600" spc="-1" strike="noStrike">
                      <a:solidFill>
                        <a:srgbClr val="ffffff"/>
                      </a:solidFill>
                      <a:latin typeface="Times New Roman"/>
                    </a:rPr>
                    <a:t>                     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Rectangle 55"/>
                <p:cNvSpPr/>
                <p:nvPr/>
              </p:nvSpPr>
              <p:spPr>
                <a:xfrm>
                  <a:off x="4500360" y="3310200"/>
                  <a:ext cx="197640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56"/>
              <p:cNvGrpSpPr/>
              <p:nvPr/>
            </p:nvGrpSpPr>
            <p:grpSpPr>
              <a:xfrm>
                <a:off x="6489360" y="3303720"/>
                <a:ext cx="2643120" cy="1776240"/>
                <a:chOff x="6489360" y="3303720"/>
                <a:chExt cx="2643120" cy="1776240"/>
              </a:xfrm>
            </p:grpSpPr>
            <p:sp>
              <p:nvSpPr>
                <p:cNvPr id="543" name="Rectangle 57"/>
                <p:cNvSpPr/>
                <p:nvPr/>
              </p:nvSpPr>
              <p:spPr>
                <a:xfrm>
                  <a:off x="6567120" y="3303720"/>
                  <a:ext cx="2487600" cy="17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1600" rIns="21600" tIns="0" bIns="4608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- </a:t>
                  </a:r>
                  <a:r>
                    <a:rPr b="1" lang="ru-RU" sz="14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Искусственная вентиляция легких.     -  -Звоните "03”.                 - Продолжайте проводить ИВЛ.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Rectangle 58"/>
                <p:cNvSpPr/>
                <p:nvPr/>
              </p:nvSpPr>
              <p:spPr>
                <a:xfrm>
                  <a:off x="6489360" y="3310200"/>
                  <a:ext cx="264312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5" name="Group 59"/>
              <p:cNvGrpSpPr/>
              <p:nvPr/>
            </p:nvGrpSpPr>
            <p:grpSpPr>
              <a:xfrm>
                <a:off x="318960" y="5079960"/>
                <a:ext cx="1284120" cy="1776600"/>
                <a:chOff x="318960" y="5079960"/>
                <a:chExt cx="1284120" cy="1776600"/>
              </a:xfrm>
            </p:grpSpPr>
            <p:sp>
              <p:nvSpPr>
                <p:cNvPr id="546" name="Rectangle 60"/>
                <p:cNvSpPr/>
                <p:nvPr/>
              </p:nvSpPr>
              <p:spPr>
                <a:xfrm>
                  <a:off x="396720" y="5079960"/>
                  <a:ext cx="1128600" cy="177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Реакция    нет</a:t>
                  </a:r>
                  <a:r>
                    <a:rPr b="1" lang="ru-RU" sz="14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Rectangle 61"/>
                <p:cNvSpPr/>
                <p:nvPr/>
              </p:nvSpPr>
              <p:spPr>
                <a:xfrm>
                  <a:off x="318960" y="5086440"/>
                  <a:ext cx="128412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Group 62"/>
              <p:cNvGrpSpPr/>
              <p:nvPr/>
            </p:nvGrpSpPr>
            <p:grpSpPr>
              <a:xfrm>
                <a:off x="1615680" y="5079960"/>
                <a:ext cx="1430640" cy="1776600"/>
                <a:chOff x="1615680" y="5079960"/>
                <a:chExt cx="1430640" cy="1776600"/>
              </a:xfrm>
            </p:grpSpPr>
            <p:sp>
              <p:nvSpPr>
                <p:cNvPr id="549" name="Rectangle 63"/>
                <p:cNvSpPr/>
                <p:nvPr/>
              </p:nvSpPr>
              <p:spPr>
                <a:xfrm>
                  <a:off x="1693440" y="5079960"/>
                  <a:ext cx="1274760" cy="177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Дыхание  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не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Rectangle 64"/>
                <p:cNvSpPr/>
                <p:nvPr/>
              </p:nvSpPr>
              <p:spPr>
                <a:xfrm>
                  <a:off x="1615680" y="5086440"/>
                  <a:ext cx="143064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Group 65"/>
              <p:cNvGrpSpPr/>
              <p:nvPr/>
            </p:nvGrpSpPr>
            <p:grpSpPr>
              <a:xfrm>
                <a:off x="3058920" y="5079960"/>
                <a:ext cx="1428840" cy="1776600"/>
                <a:chOff x="3058920" y="5079960"/>
                <a:chExt cx="1428840" cy="1776600"/>
              </a:xfrm>
            </p:grpSpPr>
            <p:sp>
              <p:nvSpPr>
                <p:cNvPr id="552" name="Rectangle 66"/>
                <p:cNvSpPr/>
                <p:nvPr/>
              </p:nvSpPr>
              <p:spPr>
                <a:xfrm>
                  <a:off x="3136680" y="5079960"/>
                  <a:ext cx="1272960" cy="177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Пульс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не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Rectangle 67"/>
                <p:cNvSpPr/>
                <p:nvPr/>
              </p:nvSpPr>
              <p:spPr>
                <a:xfrm>
                  <a:off x="3058920" y="5086440"/>
                  <a:ext cx="142884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Group 68"/>
              <p:cNvGrpSpPr/>
              <p:nvPr/>
            </p:nvGrpSpPr>
            <p:grpSpPr>
              <a:xfrm>
                <a:off x="4500360" y="5079960"/>
                <a:ext cx="1976400" cy="1776600"/>
                <a:chOff x="4500360" y="5079960"/>
                <a:chExt cx="1976400" cy="1776600"/>
              </a:xfrm>
            </p:grpSpPr>
            <p:sp>
              <p:nvSpPr>
                <p:cNvPr id="555" name="Rectangle 69"/>
                <p:cNvSpPr/>
                <p:nvPr/>
              </p:nvSpPr>
              <p:spPr>
                <a:xfrm>
                  <a:off x="4578120" y="5079960"/>
                  <a:ext cx="1820880" cy="177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Кровообраще-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ния нет</a:t>
                  </a:r>
                  <a:r>
                    <a:rPr b="1" lang="ru-RU" sz="16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Rectangle 70"/>
                <p:cNvSpPr/>
                <p:nvPr/>
              </p:nvSpPr>
              <p:spPr>
                <a:xfrm>
                  <a:off x="4500360" y="5086440"/>
                  <a:ext cx="197640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Group 71"/>
              <p:cNvGrpSpPr/>
              <p:nvPr/>
            </p:nvGrpSpPr>
            <p:grpSpPr>
              <a:xfrm>
                <a:off x="6489360" y="5079960"/>
                <a:ext cx="2643120" cy="1776600"/>
                <a:chOff x="6489360" y="5079960"/>
                <a:chExt cx="2643120" cy="1776600"/>
              </a:xfrm>
            </p:grpSpPr>
            <p:sp>
              <p:nvSpPr>
                <p:cNvPr id="558" name="Rectangle 72"/>
                <p:cNvSpPr/>
                <p:nvPr/>
              </p:nvSpPr>
              <p:spPr>
                <a:xfrm>
                  <a:off x="6567120" y="5079960"/>
                  <a:ext cx="2487600" cy="177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1600" rIns="21600" tIns="36000" bIns="1080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- </a:t>
                  </a:r>
                  <a:r>
                    <a:rPr b="1" lang="ru-RU" sz="14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Сердечно-легочная   реанимация                    - Звоните "03“                - Продолжайте проводить сердечно-легочную  реанимацию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Rectangle 73"/>
                <p:cNvSpPr/>
                <p:nvPr/>
              </p:nvSpPr>
              <p:spPr>
                <a:xfrm>
                  <a:off x="6489360" y="5086440"/>
                  <a:ext cx="264312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0" name="Rectangle 74"/>
            <p:cNvSpPr/>
            <p:nvPr/>
          </p:nvSpPr>
          <p:spPr>
            <a:xfrm>
              <a:off x="307800" y="841320"/>
              <a:ext cx="8835840" cy="6016680"/>
            </a:xfrm>
            <a:prstGeom prst="rect">
              <a:avLst/>
            </a:prstGeom>
            <a:noFill/>
            <a:ln w="126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1" name="Rectangle 75"/>
          <p:cNvSpPr/>
          <p:nvPr/>
        </p:nvSpPr>
        <p:spPr>
          <a:xfrm>
            <a:off x="3240" y="6900840"/>
            <a:ext cx="91440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Номер слайда 7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A4B4-5529-4E0E-A67F-3DAD8084A90E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Номер слайда 1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4C5A-35DF-411E-84C8-C0CA0914A588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179280" y="1844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  <a:ea typeface="Arial Unicode MS"/>
              </a:rPr>
              <a:t>Перечень состоя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468360" y="2492280"/>
            <a:ext cx="80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Отсутствие созн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Остановка дыхания и кровообращ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Наружные кровоте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Инородные тела верхних дыхательных пу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Травмы различных областей т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Ожоги, эффекты воздействия высоких температур, теплового излу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Отморожение и другие эффекты воздействия низких температу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 От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Прямоугольник 4"/>
          <p:cNvSpPr/>
          <p:nvPr/>
        </p:nvSpPr>
        <p:spPr>
          <a:xfrm>
            <a:off x="0" y="2602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каз Минздравсоцразвития России от 04.05.2012 № 477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Об утверждении перечня состояний, при которых оказывается ПП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 перечня мероприятий по оказанию ПП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ред. от 07.11.201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79280" y="0"/>
            <a:ext cx="8964720" cy="71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каз Минздравсоцразвития России от 04.05.2012  № 477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Об утверждении перечня состояний, при которых оказывается ПП, и перечня мероприятий по оказанию ПП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ред. от 07.11.201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Перечень мероприятий по оказанию первой помощи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Мероприятия по оценке обстановки и обеспечению безопасных условий для оказания П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Вызов скорой медицинской помощи, других специальных служб, сотрудники которых обязаны оказывать первую помощь по закону или специальному правил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Определение наличия сознания у пострадавш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Мероприятия по восстановлению проходимости дыхательных путей и определению признаков жизни у пострадавш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Мероприятия по проведению сердечно-легочной реанимации до  появления признаков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Мероприятия по поддержанию проходимости дыхательных пу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Мероприятия по обзорному осмотру пострадавшего и временной остановке наружного кровоте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Мероприятия по подробному осмотру пострадавшего в целях выявления признаков травм, отравлений и др. состояний, угрожающих его жизни и здоровью, и по оказанию ПП в этих случа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Придание пострадавшему оптимального положения т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Контроль состояния пострадавшего и оказание психологической поддерж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 Передача пострадавшего бригаде скорой мед. помощи, др.спец. служб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6E94-7444-4D87-9404-7E7FAA1A2081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55"/>
            </a:gs>
            <a:gs pos="100000">
              <a:srgbClr val="008080"/>
            </a:gs>
          </a:gsLst>
          <a:lin ang="6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8"/>
          <p:cNvSpPr/>
          <p:nvPr/>
        </p:nvSpPr>
        <p:spPr>
          <a:xfrm>
            <a:off x="682560" y="2349360"/>
            <a:ext cx="2160720" cy="40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Текстовое поле 1"/>
          <p:cNvSpPr/>
          <p:nvPr/>
        </p:nvSpPr>
        <p:spPr>
          <a:xfrm>
            <a:off x="250920" y="44280"/>
            <a:ext cx="855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лгоритм оказания первой неотложной помо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Ромб 2"/>
          <p:cNvSpPr/>
          <p:nvPr/>
        </p:nvSpPr>
        <p:spPr>
          <a:xfrm>
            <a:off x="3157560" y="398520"/>
            <a:ext cx="2565360" cy="112716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Текстовое поле 3"/>
          <p:cNvSpPr/>
          <p:nvPr/>
        </p:nvSpPr>
        <p:spPr>
          <a:xfrm>
            <a:off x="3492360" y="692280"/>
            <a:ext cx="186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радавш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ознани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Ромб 4"/>
          <p:cNvSpPr/>
          <p:nvPr/>
        </p:nvSpPr>
        <p:spPr>
          <a:xfrm>
            <a:off x="466560" y="1123920"/>
            <a:ext cx="2590920" cy="75096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Текстовое поле 5"/>
          <p:cNvSpPr/>
          <p:nvPr/>
        </p:nvSpPr>
        <p:spPr>
          <a:xfrm>
            <a:off x="755640" y="1339920"/>
            <a:ext cx="21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ть ли пульс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Текстовое поле 6"/>
          <p:cNvSpPr/>
          <p:nvPr/>
        </p:nvSpPr>
        <p:spPr>
          <a:xfrm>
            <a:off x="682560" y="2421000"/>
            <a:ext cx="220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Реаним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Ромб 9"/>
          <p:cNvSpPr/>
          <p:nvPr/>
        </p:nvSpPr>
        <p:spPr>
          <a:xfrm>
            <a:off x="4282920" y="1771560"/>
            <a:ext cx="2590920" cy="9828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Ромб 10"/>
          <p:cNvSpPr/>
          <p:nvPr/>
        </p:nvSpPr>
        <p:spPr>
          <a:xfrm>
            <a:off x="5796000" y="2852640"/>
            <a:ext cx="2722680" cy="94932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11"/>
          <p:cNvSpPr/>
          <p:nvPr/>
        </p:nvSpPr>
        <p:spPr>
          <a:xfrm>
            <a:off x="1116000" y="3213000"/>
            <a:ext cx="2843280" cy="633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12"/>
          <p:cNvSpPr/>
          <p:nvPr/>
        </p:nvSpPr>
        <p:spPr>
          <a:xfrm>
            <a:off x="1469880" y="4076640"/>
            <a:ext cx="3538800" cy="6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13"/>
          <p:cNvSpPr/>
          <p:nvPr/>
        </p:nvSpPr>
        <p:spPr>
          <a:xfrm>
            <a:off x="5991120" y="4149720"/>
            <a:ext cx="2525760" cy="119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14"/>
          <p:cNvSpPr/>
          <p:nvPr/>
        </p:nvSpPr>
        <p:spPr>
          <a:xfrm>
            <a:off x="1444680" y="5013360"/>
            <a:ext cx="3558960" cy="6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15"/>
          <p:cNvSpPr/>
          <p:nvPr/>
        </p:nvSpPr>
        <p:spPr>
          <a:xfrm>
            <a:off x="3848040" y="5951520"/>
            <a:ext cx="3498840" cy="81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Текстовое поле 16"/>
          <p:cNvSpPr/>
          <p:nvPr/>
        </p:nvSpPr>
        <p:spPr>
          <a:xfrm>
            <a:off x="4500720" y="1916280"/>
            <a:ext cx="212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ть ли кровотечени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Текстовое поле 17"/>
          <p:cNvSpPr/>
          <p:nvPr/>
        </p:nvSpPr>
        <p:spPr>
          <a:xfrm>
            <a:off x="6156360" y="3139920"/>
            <a:ext cx="212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ть ли переломы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Текстовое поле 18"/>
          <p:cNvSpPr/>
          <p:nvPr/>
        </p:nvSpPr>
        <p:spPr>
          <a:xfrm>
            <a:off x="1116000" y="335592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Остановка кровотеч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Текстовое поле 19"/>
          <p:cNvSpPr/>
          <p:nvPr/>
        </p:nvSpPr>
        <p:spPr>
          <a:xfrm>
            <a:off x="1503360" y="4221000"/>
            <a:ext cx="345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Противошоковые мероприят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Текстовое поле 20"/>
          <p:cNvSpPr/>
          <p:nvPr/>
        </p:nvSpPr>
        <p:spPr>
          <a:xfrm>
            <a:off x="1835280" y="5156280"/>
            <a:ext cx="305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Фиксация мест перелом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Текстовое поле 21"/>
          <p:cNvSpPr/>
          <p:nvPr/>
        </p:nvSpPr>
        <p:spPr>
          <a:xfrm>
            <a:off x="5970600" y="4292640"/>
            <a:ext cx="2631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Противошоковые мероприят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(при необходимости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Текстовое поле 22"/>
          <p:cNvSpPr/>
          <p:nvPr/>
        </p:nvSpPr>
        <p:spPr>
          <a:xfrm>
            <a:off x="3851280" y="6165720"/>
            <a:ext cx="348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Прочие меры оказания помощ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0" name="Прямая со стрелкой 23"/>
          <p:cNvCxnSpPr/>
          <p:nvPr/>
        </p:nvCxnSpPr>
        <p:spPr>
          <a:xfrm flipH="1">
            <a:off x="2555640" y="1123920"/>
            <a:ext cx="1080000" cy="216720"/>
          </a:xfrm>
          <a:prstGeom prst="straightConnector1">
            <a:avLst/>
          </a:prstGeom>
          <a:ln w="44280">
            <a:solidFill>
              <a:srgbClr val="ffffff"/>
            </a:solidFill>
            <a:round/>
            <a:tailEnd len="med" type="triangle" w="med"/>
          </a:ln>
        </p:spPr>
      </p:cxnSp>
      <p:pic>
        <p:nvPicPr>
          <p:cNvPr id="261" name="Прямая со стрелкой 25" descr=""/>
          <p:cNvPicPr/>
          <p:nvPr/>
        </p:nvPicPr>
        <p:blipFill>
          <a:blip r:embed="rId1"/>
          <a:stretch/>
        </p:blipFill>
        <p:spPr>
          <a:xfrm>
            <a:off x="4856040" y="1305000"/>
            <a:ext cx="517680" cy="635040"/>
          </a:xfrm>
          <a:prstGeom prst="rect">
            <a:avLst/>
          </a:prstGeom>
          <a:ln w="0">
            <a:noFill/>
          </a:ln>
        </p:spPr>
      </p:pic>
      <p:pic>
        <p:nvPicPr>
          <p:cNvPr id="262" name="Прямая со стрелкой 26" descr=""/>
          <p:cNvPicPr/>
          <p:nvPr/>
        </p:nvPicPr>
        <p:blipFill>
          <a:blip r:embed="rId2"/>
          <a:stretch/>
        </p:blipFill>
        <p:spPr>
          <a:xfrm>
            <a:off x="7521480" y="3537000"/>
            <a:ext cx="517680" cy="63504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ая со стрелкой 27" descr=""/>
          <p:cNvPicPr/>
          <p:nvPr/>
        </p:nvPicPr>
        <p:blipFill>
          <a:blip r:embed="rId3"/>
          <a:stretch/>
        </p:blipFill>
        <p:spPr>
          <a:xfrm>
            <a:off x="2770200" y="882720"/>
            <a:ext cx="1782720" cy="188280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ая со стрелкой 28" descr=""/>
          <p:cNvPicPr/>
          <p:nvPr/>
        </p:nvPicPr>
        <p:blipFill>
          <a:blip r:embed="rId4"/>
          <a:stretch/>
        </p:blipFill>
        <p:spPr>
          <a:xfrm>
            <a:off x="6153120" y="2457360"/>
            <a:ext cx="517680" cy="63504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ая со стрелкой 29" descr=""/>
          <p:cNvPicPr/>
          <p:nvPr/>
        </p:nvPicPr>
        <p:blipFill>
          <a:blip r:embed="rId5"/>
          <a:stretch/>
        </p:blipFill>
        <p:spPr>
          <a:xfrm>
            <a:off x="1711440" y="1128600"/>
            <a:ext cx="128520" cy="614520"/>
          </a:xfrm>
          <a:prstGeom prst="rect">
            <a:avLst/>
          </a:prstGeom>
          <a:ln w="0">
            <a:noFill/>
          </a:ln>
        </p:spPr>
      </p:pic>
      <p:pic>
        <p:nvPicPr>
          <p:cNvPr id="266" name="Прямая со стрелкой 30" descr=""/>
          <p:cNvPicPr/>
          <p:nvPr/>
        </p:nvPicPr>
        <p:blipFill>
          <a:blip r:embed="rId6"/>
          <a:stretch/>
        </p:blipFill>
        <p:spPr>
          <a:xfrm>
            <a:off x="2857680" y="1635120"/>
            <a:ext cx="1823760" cy="1704960"/>
          </a:xfrm>
          <a:prstGeom prst="rect">
            <a:avLst/>
          </a:prstGeom>
          <a:ln w="0">
            <a:noFill/>
          </a:ln>
        </p:spPr>
      </p:pic>
      <p:cxnSp>
        <p:nvCxnSpPr>
          <p:cNvPr id="267" name="Прямая со стрелкой 1"/>
          <p:cNvCxnSpPr/>
          <p:nvPr/>
        </p:nvCxnSpPr>
        <p:spPr>
          <a:xfrm flipH="1">
            <a:off x="3492000" y="2708280"/>
            <a:ext cx="1944000" cy="505440"/>
          </a:xfrm>
          <a:prstGeom prst="straightConnector1">
            <a:avLst/>
          </a:prstGeom>
          <a:ln w="44280">
            <a:solidFill>
              <a:srgbClr val="ffffff"/>
            </a:solidFill>
            <a:round/>
            <a:tailEnd len="med" type="triangle" w="med"/>
          </a:ln>
        </p:spPr>
      </p:cxnSp>
      <p:cxnSp>
        <p:nvCxnSpPr>
          <p:cNvPr id="268" name="Прямая со стрелкой 5"/>
          <p:cNvCxnSpPr/>
          <p:nvPr/>
        </p:nvCxnSpPr>
        <p:spPr>
          <a:xfrm flipH="1">
            <a:off x="4571640" y="3573360"/>
            <a:ext cx="1944000" cy="504000"/>
          </a:xfrm>
          <a:prstGeom prst="straightConnector1">
            <a:avLst/>
          </a:prstGeom>
          <a:ln w="44280">
            <a:solidFill>
              <a:srgbClr val="ffffff"/>
            </a:solidFill>
            <a:round/>
            <a:tailEnd len="med" type="triangle" w="med"/>
          </a:ln>
        </p:spPr>
      </p:cxnSp>
      <p:cxnSp>
        <p:nvCxnSpPr>
          <p:cNvPr id="269" name="Прямая со стрелкой 6"/>
          <p:cNvCxnSpPr>
            <a:stCxn id="258" idx="2"/>
          </p:cNvCxnSpPr>
          <p:nvPr/>
        </p:nvCxnSpPr>
        <p:spPr>
          <a:xfrm flipH="1">
            <a:off x="6011280" y="5358960"/>
            <a:ext cx="1275480" cy="591120"/>
          </a:xfrm>
          <a:prstGeom prst="straightConnector1">
            <a:avLst/>
          </a:prstGeom>
          <a:ln w="44280">
            <a:solidFill>
              <a:srgbClr val="ffffff"/>
            </a:solidFill>
            <a:round/>
            <a:tailEnd len="med" type="triangle" w="med"/>
          </a:ln>
        </p:spPr>
      </p:cxnSp>
      <p:pic>
        <p:nvPicPr>
          <p:cNvPr id="270" name="Прямая со стрелкой 7" descr=""/>
          <p:cNvPicPr/>
          <p:nvPr/>
        </p:nvPicPr>
        <p:blipFill>
          <a:blip r:embed="rId7"/>
          <a:stretch/>
        </p:blipFill>
        <p:spPr>
          <a:xfrm>
            <a:off x="2879640" y="3151080"/>
            <a:ext cx="125640" cy="47304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ая со стрелкой 17" descr=""/>
          <p:cNvPicPr/>
          <p:nvPr/>
        </p:nvPicPr>
        <p:blipFill>
          <a:blip r:embed="rId8"/>
          <a:stretch/>
        </p:blipFill>
        <p:spPr>
          <a:xfrm>
            <a:off x="4172040" y="5603760"/>
            <a:ext cx="466560" cy="309600"/>
          </a:xfrm>
          <a:prstGeom prst="rect">
            <a:avLst/>
          </a:prstGeom>
          <a:ln w="0">
            <a:noFill/>
          </a:ln>
        </p:spPr>
      </p:pic>
      <p:sp>
        <p:nvSpPr>
          <p:cNvPr id="272" name="Текстовое поле 18"/>
          <p:cNvSpPr/>
          <p:nvPr/>
        </p:nvSpPr>
        <p:spPr>
          <a:xfrm>
            <a:off x="5003640" y="1268280"/>
            <a:ext cx="4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Текстовое поле 19"/>
          <p:cNvSpPr/>
          <p:nvPr/>
        </p:nvSpPr>
        <p:spPr>
          <a:xfrm>
            <a:off x="2700360" y="1628640"/>
            <a:ext cx="4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Текстовое поле 20"/>
          <p:cNvSpPr/>
          <p:nvPr/>
        </p:nvSpPr>
        <p:spPr>
          <a:xfrm>
            <a:off x="4645080" y="2492280"/>
            <a:ext cx="4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Текстовое поле 21"/>
          <p:cNvSpPr/>
          <p:nvPr/>
        </p:nvSpPr>
        <p:spPr>
          <a:xfrm>
            <a:off x="6156360" y="3645000"/>
            <a:ext cx="4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Текстовое поле 22"/>
          <p:cNvSpPr/>
          <p:nvPr/>
        </p:nvSpPr>
        <p:spPr>
          <a:xfrm>
            <a:off x="2700360" y="907920"/>
            <a:ext cx="4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Текстовое поле 24"/>
          <p:cNvSpPr/>
          <p:nvPr/>
        </p:nvSpPr>
        <p:spPr>
          <a:xfrm>
            <a:off x="1260360" y="1844640"/>
            <a:ext cx="4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Текстовое поле 31"/>
          <p:cNvSpPr/>
          <p:nvPr/>
        </p:nvSpPr>
        <p:spPr>
          <a:xfrm>
            <a:off x="6372360" y="2421000"/>
            <a:ext cx="4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Текстовое поле 32"/>
          <p:cNvSpPr/>
          <p:nvPr/>
        </p:nvSpPr>
        <p:spPr>
          <a:xfrm>
            <a:off x="7812000" y="3573360"/>
            <a:ext cx="4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Прямая со стрелкой 33" descr=""/>
          <p:cNvPicPr/>
          <p:nvPr/>
        </p:nvPicPr>
        <p:blipFill>
          <a:blip r:embed="rId9"/>
          <a:stretch/>
        </p:blipFill>
        <p:spPr>
          <a:xfrm>
            <a:off x="4022640" y="3147840"/>
            <a:ext cx="1847880" cy="409680"/>
          </a:xfrm>
          <a:prstGeom prst="rect">
            <a:avLst/>
          </a:prstGeom>
          <a:ln w="0">
            <a:noFill/>
          </a:ln>
        </p:spPr>
      </p:pic>
      <p:pic>
        <p:nvPicPr>
          <p:cNvPr id="281" name="Прямая со стрелкой 3" descr=""/>
          <p:cNvPicPr/>
          <p:nvPr/>
        </p:nvPicPr>
        <p:blipFill>
          <a:blip r:embed="rId10"/>
          <a:stretch/>
        </p:blipFill>
        <p:spPr>
          <a:xfrm>
            <a:off x="3014640" y="4116240"/>
            <a:ext cx="12528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7T07:19:36Z</dcterms:created>
  <dc:creator/>
  <dc:description/>
  <dc:language>en-US</dc:language>
  <cp:lastModifiedBy>Lenovo</cp:lastModifiedBy>
  <dcterms:modified xsi:type="dcterms:W3CDTF">2020-12-25T08:25:23Z</dcterms:modified>
  <cp:revision>3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747</vt:lpwstr>
  </property>
</Properties>
</file>